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27E1-47B5-483D-96C3-91624CD169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F4F-9A78-4EC8-AD88-66EB3FAF19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C95-A0F3-48FC-A1EF-9AE1231C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97E-4C8F-494D-8BE2-1960AD14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B0D-6203-4997-9B57-B775E0A2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434-00B2-4ACF-8F91-541EDABE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49C8-D38B-4400-88D1-A63654FB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B9A5-E64A-4030-988F-33B3F07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3221-5489-412D-A4CD-D26CE98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35B3-CE9B-4CA3-BA1C-8B04D90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2E6-2589-4B29-BBE5-87367325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56C-6B94-4C24-93B1-7EFAF6F9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7E49-C5A7-4541-9406-26AC3E2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DD6-17DC-4769-B69A-47F1D9C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DDF-1D74-4FA0-97DD-E633235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A90B-B2E6-49BF-8474-B36CE5A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547A-9E38-4E05-8744-9864786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BFEA-B689-4F4B-921B-0E838BC2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E0C4-32B5-49E3-AC4E-0820285E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CAAD-D410-4A64-85A5-400F9DEF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5C5D-122E-4AD3-B278-3FF33E1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3F20-65E3-4C8D-BE69-21D6924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6132-2430-4638-8028-4985CBDC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681C-3155-414C-ACC6-DD4BCE3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50E-1700-44D7-9FFB-B37A5C3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7AD5-9356-4831-B4BA-19FD15B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4D1F-0F7A-4DC6-A692-8D596DE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D8A5-CC3E-403A-989F-E207E2D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1280-04A7-4EB9-894F-DD7F7A8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F519-AD38-4CE2-BBE0-406AE8F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1E76-51B6-43CB-9D34-3E3F83B0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B24C-D064-4297-8C50-29968EE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DCFA-04FD-4BB1-B509-1184D723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9ED09-3045-450C-8124-0CBBF305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83D8-1954-4C0A-B6D3-0C07EBC0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24E-87F9-4F8D-880F-5ADE78A9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9955-36D6-4156-A61E-8AF0E48F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C66F-9B93-4F81-B56B-621C572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3A5D-3D08-4B9D-ADD3-0D1B01EF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72B9-DA10-4C38-8F59-F96354B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E785-725B-4FF4-AF34-804B22A9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20E5-C4C4-4131-BE9F-C5A3D84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7ECB-B636-42F5-A196-0E424F9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3658-EF3C-47D4-A422-EBC50016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0AA9-FC10-4BDD-AE61-5FE5F7F0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1694-AE97-47D1-9663-29D44C81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B21-9B27-4254-A43F-0477F74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D622-B442-4828-B38D-7A80800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1E88-CF2C-4649-ACE3-0B8395B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6335-1347-4551-96D0-6C58ED2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2978-55C3-4E34-930E-44D13A8D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4DCA-AD7F-4AF9-9794-6EDD30D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EADF-A00C-4993-A345-95F8A95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A004-3A49-497C-AECF-21976462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5226A-9BD4-4894-AEB7-6589425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21B9-7BF7-4982-9D50-D2E721E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89BF-DAE8-4746-A6C3-45FF5585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DD5-88BD-43FB-B946-7E43B5D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B7A2-19B6-4C15-8365-DE3AA616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0A6D-C564-47E2-BCE6-D53280E4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CFBD-157B-4D27-9E76-B7768CD7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67D6-AC85-4A62-A4F1-D8E5D5F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2297-FB99-45CA-9ED1-739C960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A492-B7DE-4809-9010-6128636E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F15F-1EA0-4F20-BDAB-12F99714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AAA2D-D8DC-45D5-B4DE-FD480AD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DDC0-E0E3-49F0-95AD-9AD0419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A1DC-377C-4D9C-B729-CFD1534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757-71E1-424C-B8B2-F32123E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D89D-F314-4888-9631-AB8B658C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3658B-0BD5-48F7-9829-C7DCD9B0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1184-15F9-43F4-92C8-EB6E2BB6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5206-69A4-4039-B963-A063C3F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BCBF-C960-45DD-9A10-966946A4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E438-964A-473C-8EF0-0ECB18C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6CF6A-437F-477B-A2CE-EE8E8F4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DB685-F1B2-4407-933C-E8EC5EE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F575-7885-422B-B9B2-075E59B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93A4E-E887-45CE-AD02-CB80078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F27-DEDA-460B-8F92-7AAF510D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D321-1DA2-4785-AFE1-C9B5103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FD3A-F822-45B7-8D88-850B999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8FF3-E47F-409A-9AA6-0FD76D2B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DD5B-47C3-4311-8154-53B200CB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0E32D-B423-4F9C-BC3C-58949F26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E30-1168-49DB-BC7D-A729A11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183-C46A-405B-BC4B-B64E1E6F33E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4CB-470E-43C4-8FA1-AB5EFCD0594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B4F-FB57-45C6-8C48-47CEB93988D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376-7737-455A-AA6F-F399E223FE8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455D-BE3A-44F6-B698-A9DAD7477C9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92E-8DB8-44D8-8847-FC546A83B8B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ED9-A65F-4D26-B3A6-67C721E1EF6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22046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Figury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środkowosymetrycz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Twierdzen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56500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żeli figura ma dwie prostopadł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siebie osie symetrii, to punkt przecięcia się tych osi jest środkiem symetrii figu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86E5-2F6A-4EBF-A1E8-6E86B1AA935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980640"/>
            <a:ext cx="785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daj przykłady kilku figur, które mają środek symet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(Możesz wykorzystać powyższe twierdzenie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7000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5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4653000"/>
            <a:ext cx="79218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Dowolna prosta przechodząca przez środek okręgu jest jego osią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471-6666-40C4-AFA6-CF6BD83A604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lipsa 5"/>
          <p:cNvSpPr/>
          <p:nvPr/>
        </p:nvSpPr>
        <p:spPr>
          <a:xfrm>
            <a:off x="4716360" y="1197000"/>
            <a:ext cx="3024360" cy="30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Łącznik prosty 7"/>
          <p:cNvSpPr/>
          <p:nvPr/>
        </p:nvSpPr>
        <p:spPr>
          <a:xfrm>
            <a:off x="3924360" y="1700280"/>
            <a:ext cx="5040360" cy="2233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Łącznik prosty 9"/>
          <p:cNvSpPr/>
          <p:nvPr/>
        </p:nvSpPr>
        <p:spPr>
          <a:xfrm flipH="1">
            <a:off x="5363640" y="549360"/>
            <a:ext cx="1800360" cy="41036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6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71280" y="4941360"/>
            <a:ext cx="7715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roste, które zawierają  przekątne kwadratu są jego osiam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746E-D6DC-4A4E-8843-FC8E06E227A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rostokąt 15"/>
          <p:cNvSpPr/>
          <p:nvPr/>
        </p:nvSpPr>
        <p:spPr>
          <a:xfrm rot="1223400">
            <a:off x="5138280" y="1363680"/>
            <a:ext cx="2173320" cy="21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Łącznik prosty 29"/>
          <p:cNvSpPr/>
          <p:nvPr/>
        </p:nvSpPr>
        <p:spPr>
          <a:xfrm>
            <a:off x="5292720" y="476280"/>
            <a:ext cx="194328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Łącznik prosty 33"/>
          <p:cNvSpPr/>
          <p:nvPr/>
        </p:nvSpPr>
        <p:spPr>
          <a:xfrm flipV="1">
            <a:off x="4067280" y="1197000"/>
            <a:ext cx="4825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Symetralne boków prostokąta są jego osiam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stnieją figury środkowosymetryczne nieposiadające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59A-7B05-4B45-A337-F8582C5EEAD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8"/>
          <p:cNvSpPr/>
          <p:nvPr/>
        </p:nvSpPr>
        <p:spPr>
          <a:xfrm flipV="1">
            <a:off x="5219640" y="263700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czworokąt ma środek symetrii, podaj jaki warunek muszą spełniać jego przekątn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Czy znasz figurę, która ma więcej niż jeden środek symetrii?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tak, podaj przykład takiej figury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12000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2060280"/>
            <a:ext cx="81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ma więcej niż jeden środek symetrii, to ma ich nieskończenie wie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Przykład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rosta, płaszczyzn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AA0-19AD-4F8A-AB9C-7026B8895F8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9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1280" y="1125360"/>
            <a:ext cx="81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e zdanie jest prawdziw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żeli czworokąt ma środek symetrii, to jest równoległoboki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Trójkąt ma środek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ara prostych równoległych ma nieskończenie wiele środków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ek symetrii figury zawsze do niej należ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ielokąt, który ma parzystą liczbę boków ma dwa środk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Żaden siedmiokąt nie ma środka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26000"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y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i środkowe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4" name="Picture 2" descr="http://dogin.blox.pl/resource/plateklod.jpg"/>
          <p:cNvPicPr/>
          <p:nvPr/>
        </p:nvPicPr>
        <p:blipFill>
          <a:blip r:embed="rId1"/>
          <a:stretch/>
        </p:blipFill>
        <p:spPr>
          <a:xfrm>
            <a:off x="2987640" y="1700280"/>
            <a:ext cx="43624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227664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jest symetryczna sama do siebie względem pewnego punktu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, to punkt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nazywamy 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środkiem symetrii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, a taką figurę nazywamy</a:t>
            </a:r>
            <a:r>
              <a:rPr b="0" i="1" lang="pl-PL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środkowosymetryczną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3D1-0847-449F-9AEB-27F547E9402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snow_flake_01"/>
          <p:cNvPicPr/>
          <p:nvPr/>
        </p:nvPicPr>
        <p:blipFill>
          <a:blip r:embed="rId1"/>
          <a:stretch/>
        </p:blipFill>
        <p:spPr>
          <a:xfrm>
            <a:off x="1692360" y="549360"/>
            <a:ext cx="6335640" cy="5840280"/>
          </a:xfrm>
          <a:prstGeom prst="rect">
            <a:avLst/>
          </a:prstGeom>
          <a:ln w="0">
            <a:solidFill>
              <a:srgbClr val="daccab"/>
            </a:solidFill>
          </a:ln>
        </p:spPr>
      </p:pic>
    </p:spTree>
  </p:cSld>
  <p:transition advTm="3000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http://bialczynski.files.wordpress.com/2010/02/0-pipewort1.jpg"/>
          <p:cNvPicPr/>
          <p:nvPr/>
        </p:nvPicPr>
        <p:blipFill>
          <a:blip r:embed="rId1"/>
          <a:stretch/>
        </p:blipFill>
        <p:spPr>
          <a:xfrm>
            <a:off x="1258920" y="404640"/>
            <a:ext cx="749304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Rozeta"/>
          <p:cNvPicPr/>
          <p:nvPr/>
        </p:nvPicPr>
        <p:blipFill>
          <a:blip r:embed="rId1"/>
          <a:stretch/>
        </p:blipFill>
        <p:spPr>
          <a:xfrm>
            <a:off x="1476360" y="692280"/>
            <a:ext cx="7099200" cy="532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e-witraze.pl/user_uploaded/1286452927.jpg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rozeta3_d"/>
          <p:cNvPicPr/>
          <p:nvPr/>
        </p:nvPicPr>
        <p:blipFill>
          <a:blip r:embed="rId1"/>
          <a:stretch/>
        </p:blipFill>
        <p:spPr>
          <a:xfrm>
            <a:off x="2268360" y="404640"/>
            <a:ext cx="590400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http://us.123rf.com/400wm/400/400/evdoha/evdoha1012/evdoha101200407/8422448-mozaiki.jpg"/>
          <p:cNvPicPr/>
          <p:nvPr/>
        </p:nvPicPr>
        <p:blipFill>
          <a:blip r:embed="rId1"/>
          <a:stretch/>
        </p:blipFill>
        <p:spPr>
          <a:xfrm>
            <a:off x="1835280" y="549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moja_koszyczkowa"/>
          <p:cNvPicPr/>
          <p:nvPr/>
        </p:nvPicPr>
        <p:blipFill>
          <a:blip r:embed="rId1"/>
          <a:stretch/>
        </p:blipFill>
        <p:spPr>
          <a:xfrm>
            <a:off x="1547640" y="333360"/>
            <a:ext cx="6985080" cy="612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://us.123rf.com/400wm/400/400/markovka/markovka1209/markovka120900050/15442671-ozdobny-wzor-koronki-runda-tlo-kolo-z-wieloma-szczegolami-wyglada-jak-szydelkowanie-recznie-koronki.jpg"/>
          <p:cNvPicPr/>
          <p:nvPr/>
        </p:nvPicPr>
        <p:blipFill>
          <a:blip r:embed="rId1"/>
          <a:stretch/>
        </p:blipFill>
        <p:spPr>
          <a:xfrm>
            <a:off x="2050920" y="549360"/>
            <a:ext cx="6143760" cy="60195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http://www.piatnik.pl/Obrazy/karty_kodowane.jpg"/>
          <p:cNvPicPr/>
          <p:nvPr/>
        </p:nvPicPr>
        <p:blipFill>
          <a:blip r:embed="rId1"/>
          <a:stretch/>
        </p:blipFill>
        <p:spPr>
          <a:xfrm>
            <a:off x="1187280" y="476280"/>
            <a:ext cx="7777440" cy="58467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56360" cy="5419800"/>
          </a:xfrm>
          <a:prstGeom prst="rect">
            <a:avLst/>
          </a:prstGeom>
          <a:ln w="0">
            <a:noFill/>
          </a:ln>
        </p:spPr>
      </p:pic>
      <p:sp>
        <p:nvSpPr>
          <p:cNvPr id="425" name="Prostokąt 2"/>
          <p:cNvSpPr/>
          <p:nvPr/>
        </p:nvSpPr>
        <p:spPr>
          <a:xfrm>
            <a:off x="1187280" y="5904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pietto kaplica na dziedzińcu kościoła </a:t>
            </a:r>
            <a:r>
              <a:rPr b="1" i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n Pietro</a:t>
            </a: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w Rzy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1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5229000"/>
            <a:ext cx="7489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okręgu jest jego środe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82FF-A5C4-45E0-9B54-6C41E5BF6E9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5"/>
          <p:cNvSpPr/>
          <p:nvPr/>
        </p:nvSpPr>
        <p:spPr>
          <a:xfrm>
            <a:off x="3419640" y="1773360"/>
            <a:ext cx="3168360" cy="31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6"/>
          <p:cNvSpPr/>
          <p:nvPr/>
        </p:nvSpPr>
        <p:spPr>
          <a:xfrm flipH="1" flipV="1">
            <a:off x="5003640" y="3357000"/>
            <a:ext cx="46080" cy="4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7"/>
          <p:cNvSpPr/>
          <p:nvPr/>
        </p:nvSpPr>
        <p:spPr>
          <a:xfrm>
            <a:off x="4948560" y="2924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76360" y="3068640"/>
            <a:ext cx="7221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omysły zadań zostały zaczerpnięte z podręcznika do 1 klasy gimnazjum „Matematyka z plusem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dresy stron internetowych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SnowCrystal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hiren.inf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e-witraze.p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l.123rf.com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greatbuilding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1B2-6392-49B2-8FFC-15EDBAD1B46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692360" y="981000"/>
            <a:ext cx="6480000" cy="1584360"/>
          </a:xfrm>
          <a:prstGeom prst="horizontalScroll">
            <a:avLst>
              <a:gd name="adj" fmla="val 12500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f271c"/>
                </a:solidFill>
                <a:latin typeface="Gill Sans MT"/>
              </a:rPr>
              <a:t>Dziękuj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2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4797360"/>
            <a:ext cx="810108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kwadratu jest punkt przecięcia jego przekątny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976-7CBF-4188-8F34-E009FA0695C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rostokąt 5"/>
          <p:cNvSpPr/>
          <p:nvPr/>
        </p:nvSpPr>
        <p:spPr>
          <a:xfrm>
            <a:off x="4716360" y="1268280"/>
            <a:ext cx="2664000" cy="2881440"/>
          </a:xfrm>
          <a:prstGeom prst="rect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1"/>
          <p:cNvSpPr/>
          <p:nvPr/>
        </p:nvSpPr>
        <p:spPr>
          <a:xfrm flipV="1"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Łącznik prosty 13"/>
          <p:cNvSpPr/>
          <p:nvPr/>
        </p:nvSpPr>
        <p:spPr>
          <a:xfrm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ole tekstowe 8"/>
          <p:cNvSpPr/>
          <p:nvPr/>
        </p:nvSpPr>
        <p:spPr>
          <a:xfrm>
            <a:off x="588420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3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prostokąta jest punkt przecięcia jego os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6"/>
          <p:cNvSpPr/>
          <p:nvPr/>
        </p:nvSpPr>
        <p:spPr>
          <a:xfrm>
            <a:off x="523584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4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gura środkowosymetryczna nieposiadająca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DE5-B661-4553-B2AE-BFB9157AFFC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9"/>
          <p:cNvSpPr/>
          <p:nvPr/>
        </p:nvSpPr>
        <p:spPr>
          <a:xfrm>
            <a:off x="3564000" y="220500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Łącznik prosty 11"/>
          <p:cNvSpPr/>
          <p:nvPr/>
        </p:nvSpPr>
        <p:spPr>
          <a:xfrm flipV="1">
            <a:off x="3564000" y="220464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Łącznik prosty 13"/>
          <p:cNvSpPr/>
          <p:nvPr/>
        </p:nvSpPr>
        <p:spPr>
          <a:xfrm flipV="1">
            <a:off x="3851280" y="1773000"/>
            <a:ext cx="2881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4"/>
          <p:cNvSpPr/>
          <p:nvPr/>
        </p:nvSpPr>
        <p:spPr>
          <a:xfrm>
            <a:off x="5164560" y="234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7280" y="1988640"/>
            <a:ext cx="46800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bracając figurę środkowosymetryczną o 18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wokół środka symetrii, otrzymamy tę samą figurę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E0A-5BAD-4755-A88B-74E2ECB8843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74920" cy="388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42560" y="189000"/>
            <a:ext cx="78915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Zadanie 4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Które ze znaków drogowych mają środki symetrii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Users\Operator\Desktop\przykłady_symetrii\znaki drogowe\a_07.png"/>
          <p:cNvPicPr/>
          <p:nvPr/>
        </p:nvPicPr>
        <p:blipFill>
          <a:blip r:embed="rId1"/>
          <a:stretch/>
        </p:blipFill>
        <p:spPr>
          <a:xfrm>
            <a:off x="3132000" y="306864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Operator\Desktop\przykłady_symetrii\znaki drogowe\a_32.png"/>
          <p:cNvPicPr/>
          <p:nvPr/>
        </p:nvPicPr>
        <p:blipFill>
          <a:blip r:embed="rId2"/>
          <a:stretch/>
        </p:blipFill>
        <p:spPr>
          <a:xfrm>
            <a:off x="1403280" y="1628640"/>
            <a:ext cx="1143000" cy="101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Operator\Desktop\przykłady_symetrii\znaki drogowe\b_03.png"/>
          <p:cNvPicPr/>
          <p:nvPr/>
        </p:nvPicPr>
        <p:blipFill>
          <a:blip r:embed="rId3"/>
          <a:stretch/>
        </p:blipFill>
        <p:spPr>
          <a:xfrm>
            <a:off x="1476360" y="299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Operator\Desktop\przykłady_symetrii\znaki drogowe\b_01.png"/>
          <p:cNvPicPr/>
          <p:nvPr/>
        </p:nvPicPr>
        <p:blipFill>
          <a:blip r:embed="rId4"/>
          <a:stretch/>
        </p:blipFill>
        <p:spPr>
          <a:xfrm>
            <a:off x="3132000" y="155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C:\Users\Operator\Desktop\przykłady_symetrii\znaki drogowe\d_01.png"/>
          <p:cNvPicPr/>
          <p:nvPr/>
        </p:nvPicPr>
        <p:blipFill>
          <a:blip r:embed="rId5"/>
          <a:stretch/>
        </p:blipFill>
        <p:spPr>
          <a:xfrm>
            <a:off x="3203640" y="450864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C:\Users\Operator\AppData\Local\Microsoft\Windows\Temporary Internet Files\Content.IE5\A4KG3B2Y\MC900346301[1].wmf"/>
          <p:cNvPicPr/>
          <p:nvPr/>
        </p:nvPicPr>
        <p:blipFill>
          <a:blip r:embed="rId6"/>
          <a:stretch/>
        </p:blipFill>
        <p:spPr>
          <a:xfrm>
            <a:off x="4716360" y="1557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Operator\Desktop\przykłady_symetrii\znaki drogowe\b_36.png"/>
          <p:cNvPicPr/>
          <p:nvPr/>
        </p:nvPicPr>
        <p:blipFill>
          <a:blip r:embed="rId7"/>
          <a:stretch/>
        </p:blipFill>
        <p:spPr>
          <a:xfrm>
            <a:off x="630072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8" descr="C:\Users\Operator\AppData\Local\Microsoft\Windows\Temporary Internet Files\Content.IE5\ICFVKMCT\MC900411382[1].wmf"/>
          <p:cNvPicPr/>
          <p:nvPr/>
        </p:nvPicPr>
        <p:blipFill>
          <a:blip r:embed="rId8"/>
          <a:stretch/>
        </p:blipFill>
        <p:spPr>
          <a:xfrm>
            <a:off x="4643280" y="4437000"/>
            <a:ext cx="1432080" cy="115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C:\Users\Operator\AppData\Local\Microsoft\Windows\Temporary Internet Files\Content.IE5\ZJ902C1U\MC900411258[1].wmf"/>
          <p:cNvPicPr/>
          <p:nvPr/>
        </p:nvPicPr>
        <p:blipFill>
          <a:blip r:embed="rId9"/>
          <a:stretch/>
        </p:blipFill>
        <p:spPr>
          <a:xfrm>
            <a:off x="1476360" y="4437000"/>
            <a:ext cx="12333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library.kiwix.org/wikipedia_pl_dvd_2006_beta1/I/ZNAK_B_2.PNG"/>
          <p:cNvPicPr/>
          <p:nvPr/>
        </p:nvPicPr>
        <p:blipFill>
          <a:blip r:embed="rId10"/>
          <a:stretch/>
        </p:blipFill>
        <p:spPr>
          <a:xfrm>
            <a:off x="6300720" y="2924280"/>
            <a:ext cx="1135080" cy="113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library.kiwix.org/wikipedia_pl_dvd_2006_beta1/I/ZNAK_C12.PNG"/>
          <p:cNvPicPr/>
          <p:nvPr/>
        </p:nvPicPr>
        <p:blipFill>
          <a:blip r:embed="rId11"/>
          <a:stretch/>
        </p:blipFill>
        <p:spPr>
          <a:xfrm>
            <a:off x="62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library.kiwix.org/wikipedia_pl_dvd_2006_beta1/I/ZNAK_A_5.PNG"/>
          <p:cNvPicPr/>
          <p:nvPr/>
        </p:nvPicPr>
        <p:blipFill>
          <a:blip r:embed="rId12"/>
          <a:stretch/>
        </p:blipFill>
        <p:spPr>
          <a:xfrm>
            <a:off x="4716360" y="3068640"/>
            <a:ext cx="1224000" cy="10605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920" y="0"/>
            <a:ext cx="7850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5.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skaż litery i liczby, które posiadają środki symetri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A, B, C, D, E, F, H, I, M,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N, O, S, T, U, W, X, Y, Z 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0,1, 8, 11, 33, 66, 6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88, 96 101, 60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EEB-B5A4-4D53-8A79-5D6DEEB006F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8:14Z</dcterms:created>
  <dc:creator>Home</dc:creator>
  <dc:description/>
  <dc:language>en-US</dc:language>
  <cp:lastModifiedBy>Ania</cp:lastModifiedBy>
  <dcterms:modified xsi:type="dcterms:W3CDTF">2013-06-11T22:03:48Z</dcterms:modified>
  <cp:revision>18</cp:revision>
  <dc:subject/>
  <dc:title>Figury  środkowosymetryczne</dc:title>
</cp:coreProperties>
</file>